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5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C5B-4A0B-4662-9FE3-DEEDF984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797-CCDE-4C63-9F0F-4AC0713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55D-7810-4F83-BED3-B8CCB310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A61-788E-40A1-A929-EDB0C937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189-113F-449C-9767-BFB6569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EB90-7B29-413F-9A16-F10B58EF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6EE-7793-4700-B73C-44CE2FCE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2B3-2148-4F9B-B645-510AE48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D9D-3BE5-4101-AE05-15405E9B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D19-0195-4B04-AB06-B38641B6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5CB-7493-4157-A504-44EC790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38F-21EB-4D2B-A8B1-6F8BC5FE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57D-484C-4E00-8F13-A44909D2F7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mailto:hhejori@stc.com.sa" TargetMode="Externa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41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1911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533520" y="6191280"/>
            <a:ext cx="900000" cy="3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86800" y="6191280"/>
            <a:ext cx="900000" cy="30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53960" y="2455920"/>
            <a:ext cx="658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لزم الإستغفار جعل الله له من كل ضيق مخرجاً ومن كل هم فرجاً ورزقه من حيث لا يحتسب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3962520" cy="1520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2270160"/>
            <a:ext cx="8534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يصبح على كل سلامي من أحدكم صدقة  ،  فكل تسبيحة صدقة  ،  وكل تحميدة صدقة  ،  وكل تهليلة صدقة  ،  وكل تكبيرة صدقة  ،  وأمر بالمعروف صدقة  ،  ونهي عن المنكر صدقة ويجزيء عن ذلك ركعتان يركعهما من الضحى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66920" y="0"/>
            <a:ext cx="2962440" cy="190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010280" y="5962680"/>
            <a:ext cx="180036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9080" y="485640"/>
            <a:ext cx="9182160" cy="6220080"/>
            <a:chOff x="19080" y="485640"/>
            <a:chExt cx="9182160" cy="6220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1908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514760" y="4856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1908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4572000" y="4143240"/>
              <a:ext cx="4629240" cy="25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333520" y="2147760"/>
              <a:ext cx="4629240" cy="256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9760" y="1434960"/>
            <a:ext cx="82533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يا بنا نؤمن بربنا س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كلمة جليلة كان يقولها سلمان الفارسي لصديقه عبد الرحمن بن عو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 أخوتي وأخواتي الأعزاء :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هذا البرنامج اليومي عبارة عن ساعة (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دقيقة  )  من  الطاعة  نمارسها كل يوم لننال من فضل الله ورحمته الكثير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وهذه الساعة ستكون موزعة على جميع أوقات اليوم .... فهي ليست عبئا لنتكاسل عنها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88960" y="228600"/>
            <a:ext cx="6324840" cy="58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cc99"/>
                </a:solidFill>
                <a:latin typeface="Arial"/>
                <a:cs typeface="DecoType Naskh Variants"/>
              </a:rPr>
              <a:t>من فوائد هذا البرنامج العظي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مغفرة الذنوب وقضاء الحوائج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الفقر في الدنيا لك ولأولادك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أمان من فتنة القبر وعذابه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بيت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5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ستجابة دعائك يقينا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6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غرس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نخلة لك في الجنة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7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تفريج الهم وزيادة في الرزق .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8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- التصدق عن كل مفصلة من مفاصل جسدك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0160" y="5219640"/>
            <a:ext cx="5295960" cy="80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79480" y="2421000"/>
            <a:ext cx="754380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رأ سورة الواقعة كل ليلة لم تصبه فاقة أبدا 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الفاقة : الفقــر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76320"/>
            <a:ext cx="41148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86600" y="6172200"/>
            <a:ext cx="1800360" cy="546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47920" y="2455920"/>
            <a:ext cx="6400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 : ( من القرآن سورة ثلاثون آية شفعت لرجل حتى غُفر له  ،  وهي تبارك الذي بيده الملك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3657600" cy="127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086600" y="6095880"/>
            <a:ext cx="180036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13000" y="249696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س قلب القرآن لا يقرأها رجل يريد الله تعالى والدار الآخرة إلا غفر له    واقرؤوها على موتاكم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71800" y="76320"/>
            <a:ext cx="3352680" cy="156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238880" y="6019920"/>
            <a:ext cx="180036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35120" y="2479680"/>
            <a:ext cx="601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ar-SA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صلى في اليوم والليلة إثنى عشر ركعة تطوعاً بنى الله له بيتا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0640" y="152280"/>
            <a:ext cx="5715000" cy="126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16292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49320" y="2151000"/>
            <a:ext cx="739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ينزل ربنا عز وجل كل ليلة إلى السماء الدنيا حين يبقى ثلث الليل الأخير فيقول : من يدعوني فأستجيب له  ،  من يسألني فأعطيه  ،  من يستغفرني فأغفر له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00440" y="76320"/>
            <a:ext cx="3733560" cy="1450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1752480" cy="60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65200" y="2760840"/>
            <a:ext cx="635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DecoType Naskh Variants"/>
              </a:rPr>
              <a:t>قال رسول الله  </a:t>
            </a:r>
            <a:r>
              <a:rPr b="0" lang="en-US" sz="40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DecoType Naskh Variants"/>
              </a:rPr>
              <a:t> : ( من قال سبحان الله العظيم وبحمده غرست له نخلة في الجنة )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5029200" cy="1404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8880" y="5943600"/>
            <a:ext cx="175284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60036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800600" y="6248520"/>
            <a:ext cx="914400" cy="368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hlinkshowjump?jump=firstslide"/>
          </p:cNvPr>
          <p:cNvPicPr/>
          <p:nvPr/>
        </p:nvPicPr>
        <p:blipFill>
          <a:blip r:embed="rId5"/>
          <a:stretch/>
        </p:blipFill>
        <p:spPr>
          <a:xfrm>
            <a:off x="609480" y="6248520"/>
            <a:ext cx="914400" cy="3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7:57:57Z</dcterms:created>
  <dc:creator>stc</dc:creator>
  <dc:description/>
  <dc:language>en-US</dc:language>
  <cp:lastModifiedBy>أنس النجار</cp:lastModifiedBy>
  <dcterms:modified xsi:type="dcterms:W3CDTF">2006-12-24T16:06:17Z</dcterms:modified>
  <cp:revision>6</cp:revision>
  <dc:subject/>
  <dc:title>عرض تقديمي من PowerPoint</dc:title>
</cp:coreProperties>
</file>