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5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045-A20D-42C8-B5B4-3E9115E5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49A-0D9A-41A4-8678-8B8049C4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BE1-DA84-4670-84E5-41C6F313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05A-6CC8-4CED-B507-2564F52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384-4D5A-40E6-878C-075367C6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280-93AC-4914-B017-949FCD9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A35-D875-4E34-8429-C37D40AA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FE9-54A5-4D55-8830-908F51ED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836-48BF-4857-8E86-8F81A726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F98-0CCE-47A0-A67C-7B505BD7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F9D-D9BA-426D-88F4-8A6F444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018-040A-4D26-8D53-3D2B9CBB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2C00-E7DA-462E-B15B-5A1E94466C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mailto:hhejori@stc.com.sa" TargetMode="Externa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571680"/>
            <a:ext cx="85341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91120" y="6191280"/>
            <a:ext cx="900000" cy="36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33520" y="6191280"/>
            <a:ext cx="900000" cy="3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86800" y="6191280"/>
            <a:ext cx="900000" cy="3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53960" y="2455920"/>
            <a:ext cx="65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لزم الإستغفار جعل الله له من كل ضيق مخرجاً ومن كل هم فرجاً ورزقه من حيث لا يحتسب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396252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6292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7016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 : ( يصبح على كل سلامي من أحدكم صدقة  ،  فكل تسبيحة صدقة  ،  وكل تحميدة صدقة  ،  وكل تهليلة صدقة  ،  وكل تكبيرة صدقة  ،  وأمر بالمعروف صدقة  ،  ونهي عن المنكر صدقة ويجزيء عن ذلك ركعتان يركعهما من الضحى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66920" y="0"/>
            <a:ext cx="2962440" cy="190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10280" y="5962680"/>
            <a:ext cx="180036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9080" y="485640"/>
            <a:ext cx="9182160" cy="6220080"/>
            <a:chOff x="19080" y="485640"/>
            <a:chExt cx="9182160" cy="6220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9080" y="4856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514760" y="4856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9080" y="41432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4572000" y="41432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333520" y="2147760"/>
              <a:ext cx="4629240" cy="256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9760" y="1434960"/>
            <a:ext cx="82533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هيا بنا نؤمن بربنا س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كلمة جليلة كان يقولها سلمان الفارسي لصديقه عبد الرحمن بن عو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 أخوتي وأخواتي الأعزاء :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هذا البرنامج اليومي عبارة عن ساعة (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دقيقة  )  من  الطاعة  نمارسها كل يوم لننال من فضل الله ورحمته الكثير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وهذه الساعة ستكون موزعة على جميع أوقات اليوم .... فهي ليست عبئا لنتكاسل عنها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8960" y="228600"/>
            <a:ext cx="63248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cc99"/>
                </a:solidFill>
                <a:latin typeface="Arial"/>
                <a:cs typeface="DecoType Naskh Variants"/>
              </a:rPr>
              <a:t>من فوائد هذا البرنامج العظي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مغفرة الذنوب وقضاء الحوائج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أمان من الفقر في الدنيا لك ولأولادك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أمان من فتنة القبر وعذابه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بيت لك في الجنة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ستجابة دعائك يقينا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غرس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نخلة لك في الجنة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تفريج الهم وزيادة في الرزق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تصدق عن كل مفصلة من مفاصل جسد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0160" y="5219640"/>
            <a:ext cx="5295960" cy="8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79480" y="2421000"/>
            <a:ext cx="75438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قرأ سورة الواقعة كل ليلة لم تصبه فاقة أبدا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الفاقة : الفقــر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41148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86600" y="6172200"/>
            <a:ext cx="1800360" cy="54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24559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 : ( من القرآن سورة ثلاثون آية شفعت لرجل حتى غُفر له  ،  وهي تبارك الذي بيده الملك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57600" cy="127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180036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13000" y="249696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يس قلب القرآن لا يقرأها رجل يريد الله تعالى والدار الآخرة إلا غفر له    واقرؤوها على موتاكم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71800" y="76320"/>
            <a:ext cx="3352680" cy="156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180036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5120" y="2479680"/>
            <a:ext cx="60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صلى في اليوم والليلة إثنى عشر ركعة تطوعاً بنى الله له بيتا في الجنة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0640" y="152280"/>
            <a:ext cx="5715000" cy="12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6292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49320" y="215100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ينزل ربنا عز وجل كل ليلة إلى السماء الدنيا حين يبقى ثلث الليل الأخير فيقول : من يدعوني فأستجيب له  ،  من يسألني فأعطيه  ،  من يستغفرني فأغفر له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00440" y="76320"/>
            <a:ext cx="3733560" cy="1450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65200" y="2760840"/>
            <a:ext cx="635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قال سبحان الله العظيم وبحمده غرست له نخلة في الجنة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5029200" cy="14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8880" y="5943600"/>
            <a:ext cx="175284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07:57:57Z</dcterms:created>
  <dc:creator>stc</dc:creator>
  <dc:description/>
  <dc:language>en-US</dc:language>
  <cp:lastModifiedBy>أنس النجار</cp:lastModifiedBy>
  <dcterms:modified xsi:type="dcterms:W3CDTF">2006-12-24T16:06:17Z</dcterms:modified>
  <cp:revision>6</cp:revision>
  <dc:subject/>
  <dc:title>عرض تقديمي من PowerPoint</dc:title>
</cp:coreProperties>
</file>