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5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3C5-1FB1-4124-878A-40882354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E77-98DD-42D9-B370-86C85F21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E367-E797-431B-A70B-50C9B200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6D8C-4FC8-4E35-8C0A-03306DC3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968-5A10-44C0-BD73-B460F0DA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601C-375D-40CA-9BB6-ED05B83F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A226-F88D-4AE5-B9A0-05155ED7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BAA7-E61C-45AC-8C3F-21D9274B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D2A-8DE9-40EA-9907-2234922B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161-D3B2-4DBE-B141-EBACB863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060-CC3D-4FE7-A16C-8B1ECAF4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4BB-1076-4662-9AAC-E8CFE3B3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03E0-491D-4B6C-9D12-0CF98932D07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mailto:hhejori@stc.com.sa" TargetMode="Externa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571680"/>
            <a:ext cx="853416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191120" y="6191280"/>
            <a:ext cx="900000" cy="361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533520" y="6191280"/>
            <a:ext cx="900000" cy="36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86800" y="6191280"/>
            <a:ext cx="900000" cy="30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53960" y="2455920"/>
            <a:ext cx="658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</a:t>
            </a:r>
            <a:r>
              <a:rPr b="0" lang="ar-SA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: ( من لزم الإستغفار جعل الله له من كل ضيق مخرجاً ومن كل هم فرجاً ورزقه من حيث لا يحتسب )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76320"/>
            <a:ext cx="3962520" cy="1520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162920" y="6019920"/>
            <a:ext cx="175248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2270160"/>
            <a:ext cx="8534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 </a:t>
            </a:r>
            <a:r>
              <a:rPr b="0" lang="ar-SA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 : ( يصبح على كل سلامي من أحدكم صدقة  ،  فكل تسبيحة صدقة  ،  وكل تحميدة صدقة  ،  وكل تهليلة صدقة  ،  وكل تكبيرة صدقة  ،  وأمر بالمعروف صدقة  ،  ونهي عن المنكر صدقة ويجزيء عن ذلك ركعتان يركعهما من الضحى )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166920" y="0"/>
            <a:ext cx="2962440" cy="190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10280" y="5962680"/>
            <a:ext cx="1800360" cy="584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9080" y="485640"/>
            <a:ext cx="9182160" cy="6220080"/>
            <a:chOff x="19080" y="485640"/>
            <a:chExt cx="9182160" cy="622008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19080" y="485640"/>
              <a:ext cx="4629240" cy="25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4514760" y="485640"/>
              <a:ext cx="4629240" cy="25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19080" y="4143240"/>
              <a:ext cx="4629240" cy="25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4572000" y="4143240"/>
              <a:ext cx="4629240" cy="25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2333520" y="2147760"/>
              <a:ext cx="4629240" cy="256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hlinkshowjump?jump=firstslide"/>
          </p:cNvPr>
          <p:cNvPicPr/>
          <p:nvPr/>
        </p:nvPicPr>
        <p:blipFill>
          <a:blip r:embed="rId7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9760" y="1434960"/>
            <a:ext cx="825336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هيا بنا نؤمن بربنا ساع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كلمة جليلة كان يقولها سلمان الفارسي لصديقه عبد الرحمن بن عو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 أخوتي وأخواتي الأعزاء :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هذا البرنامج اليومي عبارة عن ساعة (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60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دقيقة  )  من  الطاعة  نمارسها كل يوم لننال من فضل الله ورحمته الكثير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وهذه الساعة ستكون موزعة على جميع أوقات اليوم .... فهي ليست عبئا لنتكاسل عنها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88960" y="228600"/>
            <a:ext cx="6324840" cy="58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cc99"/>
                </a:solidFill>
                <a:latin typeface="Arial"/>
                <a:cs typeface="DecoType Naskh Variants"/>
              </a:rPr>
              <a:t>من فوائد هذا البرنامج العظيم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مغفرة الذنوب وقضاء الحوائج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الأمان من الفقر في الدنيا لك ولأولادك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الأمان من فتنة القبر وعذابه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بيت لك في الجنة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5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استجابة دعائك يقينا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غرس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نخلة لك في الجنة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7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تفريج الهم وزيادة في الرزق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8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التصدق عن كل مفصلة من مفاصل جسدك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00160" y="5219640"/>
            <a:ext cx="5295960" cy="80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79480" y="2421000"/>
            <a:ext cx="754380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</a:t>
            </a:r>
            <a:r>
              <a:rPr b="0" lang="en-US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: ( من قرأ سورة الواقعة كل ليلة لم تصبه فاقة أبدا 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الفاقة : الفقــر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90920" y="76320"/>
            <a:ext cx="4114800" cy="164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086600" y="6172200"/>
            <a:ext cx="1800360" cy="546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7920" y="2455920"/>
            <a:ext cx="6400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 </a:t>
            </a:r>
            <a:r>
              <a:rPr b="0" lang="ar-SA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 : ( من القرآن سورة ثلاثون آية شفعت لرجل حتى غُفر له  ،  وهي تبارك الذي بيده الملك )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3657600" cy="1274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086600" y="6095880"/>
            <a:ext cx="1800360" cy="609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13000" y="2496960"/>
            <a:ext cx="647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</a:t>
            </a:r>
            <a:r>
              <a:rPr b="0" lang="en-US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: ( يس قلب القرآن لا يقرأها رجل يريد الله تعالى والدار الآخرة إلا غفر له    واقرؤوها على موتاكم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71800" y="76320"/>
            <a:ext cx="3352680" cy="156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238880" y="6019920"/>
            <a:ext cx="1800360" cy="685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35120" y="2479680"/>
            <a:ext cx="6019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</a:t>
            </a:r>
            <a:r>
              <a:rPr b="0" lang="ar-SA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: ( من صلى في اليوم والليلة إثنى عشر ركعة تطوعاً بنى الله له بيتا في الجنة )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0640" y="152280"/>
            <a:ext cx="5715000" cy="126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162920" y="6019920"/>
            <a:ext cx="1752480" cy="609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49320" y="2151000"/>
            <a:ext cx="7391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</a:t>
            </a:r>
            <a:r>
              <a:rPr b="0" lang="en-US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: ( ينزل ربنا عز وجل كل ليلة إلى السماء الدنيا حين يبقى ثلث الليل الأخير فيقول : من يدعوني فأستجيب له  ،  من يسألني فأعطيه  ،  من يستغفرني فأغفر له )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00440" y="76320"/>
            <a:ext cx="3733560" cy="1450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86600" y="6019920"/>
            <a:ext cx="1752480" cy="609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65200" y="2760840"/>
            <a:ext cx="635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</a:t>
            </a:r>
            <a:r>
              <a:rPr b="0" lang="en-US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: ( من قال سبحان الله العظيم وبحمده غرست له نخلة في الجنة )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33720" y="76320"/>
            <a:ext cx="5029200" cy="1404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238880" y="5943600"/>
            <a:ext cx="175284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8T07:57:57Z</dcterms:created>
  <dc:creator>stc</dc:creator>
  <dc:description/>
  <dc:language>en-US</dc:language>
  <cp:lastModifiedBy>أنس النجار</cp:lastModifiedBy>
  <dcterms:modified xsi:type="dcterms:W3CDTF">2006-12-24T16:06:17Z</dcterms:modified>
  <cp:revision>6</cp:revision>
  <dc:subject/>
  <dc:title>عرض تقديمي من PowerPoint</dc:title>
</cp:coreProperties>
</file>